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2AF-1D04-4B99-AFC7-2BFE57A2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93E-155F-4EA6-A820-635D06A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FD-5D02-48E8-B5C2-7D0DF689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66F-CBF0-42F8-B296-7EA50389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5D3-B752-4946-8B59-AB023507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C9BB-4C7F-419B-8104-D80AF630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0B4D-3955-48B9-B655-7827B32D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7762-6A3D-4C86-AEDA-65A5086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07B0-CE36-4381-9F85-EB4C17D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8F9-0BD0-4460-80D8-74B061D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BBC-D9FE-4A40-9338-7466288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E18-19B6-4D43-A028-0B0E0C41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8BB6-2294-4539-9EAF-C96F27EC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7DD5-DBE8-4B8C-ADEE-88AEB6D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78DE-0968-4CEE-A874-F9FAEDEF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8D22-2AB1-4B0B-B9C4-E57D371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A88C-9699-4D46-9249-91D5DDCB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865-EAFE-4DAF-908A-46978B76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178-FAA6-4987-835B-EDCAA9A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68D-6561-4326-A7EC-5A0FF1B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BA8-700B-414B-BD84-5D570EA7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211-EF25-4947-91E1-174C919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B69-9FF1-4BE9-8690-E20504B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C71-AE58-4B02-8162-01EC971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9F14-D17C-4DAD-812D-2ADC4AA74F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DBA-7AB0-4992-925F-5C2846FFEC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173560" y="5160960"/>
            <a:ext cx="3060720" cy="7668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Lengt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609480" y="2438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_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952880" y="25146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_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609480" y="190512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49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,0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4952880" y="182880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.9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7.4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.8 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3716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X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57150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÷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6:21Z</dcterms:created>
  <dc:creator>PritchaJ</dc:creator>
  <dc:description/>
  <dc:language>en-US</dc:language>
  <cp:lastModifiedBy>PritchaJ</cp:lastModifiedBy>
  <dcterms:modified xsi:type="dcterms:W3CDTF">2011-05-24T15:38:48Z</dcterms:modified>
  <cp:revision>2</cp:revision>
  <dc:subject/>
  <dc:title>Slide 1</dc:title>
</cp:coreProperties>
</file>